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8A27-0FCA-4682-B630-5796C2C8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7A24-AB28-432A-BECC-4DE129EA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3C3-C9F8-4AAA-8813-91C4D181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3EF-C5C1-4F92-B86A-B0656577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3711-42CD-4799-A572-81F5BFD6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1F4F-3A5F-4FD9-A8AA-0900F696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9BF5-3976-4ACA-AECF-FB3E2773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E323-8451-4988-95AF-CEC1CC06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DD8D-21AE-4F45-8416-EF61596C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50FA-BD14-4219-9881-500C3DBC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42EB-8D57-4B5D-8808-EDEF9B23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350A-D546-4C65-9D79-6808F5E8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4EEB-6993-4ABF-8077-79FC6549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B19B-6DA5-45E3-8F73-67AD8804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457D-7634-4926-8234-8F659689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1D91-F297-4E38-A7EA-7E1655E9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EA05-DC22-4A4B-A83F-DDF74F5A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39C-CA7D-4736-81B8-9E85DFCA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27D8-36D8-48C5-A0A5-C23AB331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51F-391F-409B-AF8B-8CE3F085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5580-958D-4DF6-AECE-EEC7331B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B09-B6CA-473F-8767-A5A62704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7CB-D9BE-4015-B0E9-6F520410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E894-8618-4AD0-9982-40F0EE81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F765-A443-4942-95B4-011AFE5E5F61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DC2C-7156-47E8-ACEC-95BA97DE58AE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LAS COMID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14600" y="2057400"/>
            <a:ext cx="46483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R SUZANNA RACHI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45720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20040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900ff"/>
                </a:solidFill>
                <a:uFillTx/>
                <a:latin typeface="Arial Black"/>
              </a:rPr>
              <a:t>PARA EL DESAYUNO ME GUSTA COMER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2033640" cy="1852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00400" y="2362320"/>
            <a:ext cx="222408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52880" y="4495680"/>
            <a:ext cx="168444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867280" y="2438280"/>
            <a:ext cx="2438640" cy="1793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600200" y="4648320"/>
            <a:ext cx="2438280" cy="1904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86400" y="649116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1680" y="6490440"/>
            <a:ext cx="18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pas a la cas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64904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aso de agu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41680" y="411444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ortilla con que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eddar y espinac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9960" y="4266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ostadas de cane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0000" y="42663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ntalup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900ff"/>
                </a:solidFill>
                <a:uFillTx/>
                <a:latin typeface="Arial Black"/>
              </a:rPr>
              <a:t>PARA EL ALMUERZO ME GUSTA COMER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205740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00400" y="2362320"/>
            <a:ext cx="2300400" cy="1904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342880" cy="1904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438280" y="4648320"/>
            <a:ext cx="2286000" cy="1712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486400" y="4648320"/>
            <a:ext cx="1219320" cy="1676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89280" y="63237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ca-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6240" y="6323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ush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80680" y="426636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lo a la parril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7640" y="434268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salada cés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1040" y="4266360"/>
            <a:ext cx="11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nzan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900ff"/>
                </a:solidFill>
                <a:uFillTx/>
                <a:latin typeface="Arial Black"/>
              </a:rPr>
              <a:t>PARA LA CENA ME GUSTA COMER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523960" cy="1600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172200" y="2514600"/>
            <a:ext cx="220968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752480" y="4495680"/>
            <a:ext cx="205740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638680" y="4419720"/>
            <a:ext cx="123696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50440" y="41140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ngos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41140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í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31920" y="41140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labací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2760" y="649116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salada Cés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6491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nta nara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Arial"/>
              </a:rPr>
              <a:t>PARA EL POSTRE ME GUSTA COMMER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2210040" cy="1865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05520" y="4724280"/>
            <a:ext cx="213336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371600" y="472428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467480" y="2438280"/>
            <a:ext cx="1408320" cy="2210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276720" y="259092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3440" y="4114440"/>
            <a:ext cx="29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pcake de vaini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 cobertura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5560" y="649044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ocolate ca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6440" y="426672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esas cubierta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94040" y="464760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esas c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ema ba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16440" y="64904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u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0:57Z</dcterms:created>
  <dc:creator>rachimisuz</dc:creator>
  <dc:description/>
  <dc:language>en-US</dc:language>
  <cp:lastModifiedBy>rachimisuz</cp:lastModifiedBy>
  <dcterms:modified xsi:type="dcterms:W3CDTF">2011-04-14T14:59:17Z</dcterms:modified>
  <cp:revision>9</cp:revision>
  <dc:subject/>
  <dc:title>LAS COMIDAS</dc:title>
</cp:coreProperties>
</file>